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9D6-60CF-4B4D-9965-14E796DA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9A5-88D4-41FC-8D39-7F9897BD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65F-E813-4746-B849-03FF3425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B61-685D-4703-8E69-E308DCB6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A92-F983-49F5-8FE0-EBBB6DFE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E12-99DD-433F-A7C1-BE2BBDDE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BA1-B278-472A-82BD-970A67B0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DC3-F0DB-4967-8945-346D3740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A6E-D80C-47E7-9F28-C31E8373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35C-B4DF-4802-AA04-A5A638CD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84E-BD21-4A23-BE10-8078B06B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1CC-41BA-40DF-B3F1-E0FE7D2B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FCE9-D879-4B8E-9D1C-E8AF217F2A4A}" type="datetime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2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452760" y="635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120E-34B5-4D02-BC11-3EC02BECDB5B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Project Plann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&gt; Software &lt;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Yang Yong Qi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, 28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014-5B92-4F28-80DD-577CC30864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HW: 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oul Erik Rask</a:t>
            </a:r>
            <a:r>
              <a:rPr b="0" lang="en-US" sz="36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 technical project leader of ODM projects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50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T5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T60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FX6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75 (Taiwan)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Hardware project leader of JERRY (in Aalbor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04C-F9CA-4A72-BA21-CED2578769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IM/DL: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Allan Hansen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</a:rPr>
              <a:t>Software and Integration Manager of Projects lik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oC for Ulysses Refresh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xt generation software platform”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roject leader Integration Management and Device Layer for JERRY (working 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2C7-0F8D-4C9D-8D74-A93362F5A9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art Project Leaders (PPL) working in Aal / DK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lemming Kokholm (JERRY: System Test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Venus (ODM), S56 Marlin, Aries, Cormorant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andi Bak (JERRY: Layout / Production Data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3, Hera, Cormora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lemming Bach Kristensen (JERRY: Digital HW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56, C56, Janus, Venus, Robin, Wolf 4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Arne Bisgaard Kristensen (JERRY: EMC/Ant): Hera C65, C66, C70, C71, Pegasus AX75, AX76, AX7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ichael Brammer (JERRY: RF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P4000, Dual com 738, World 718, Dual com 439/939, Dual GSM 300, SP55, SX1, Hydra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CA5-5F0D-498C-A7F8-0702767048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 SW:    Yang Yong Qiang (Beijing, PRC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9 years in software development Mobile phones and IS-95 CDMA Basest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Java topics in Beijing R&amp;D Center, BenQ/Siemens Mobile, incl. CLDC HI, DoJa, JSR177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 Dorado and Lib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宋体"/>
              </a:rPr>
              <a:t>Software Project Leader of JERRY (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EBA-64DF-4364-93F1-F1894D1809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 Feature: Hu Chun Yan (Beijing, PRC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8 years in software development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DoJa Development in Beijing R&amp;D Center,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  <a:ea typeface="宋体"/>
              </a:rPr>
              <a:t>Features Project Leader of JERRY (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E2E-1B67-407C-A619-7E2579A2BC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BenQ Beijing Development Tea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5 years SW development experience on average, with 2 years in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ystem Architect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tefan Burkert (coach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Chen Mia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Development Tea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Cui Yi (Lead)                             Lu Qi Wen (SW Arch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ong Wen Juan (SW Arch)       Yi Xiao Qiang (SE*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Zhou Tong (SE*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2 local consultan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宋体"/>
              </a:rPr>
              <a:t>-- SE* = Senior Engine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702-3875-4BF5-B41B-924E9D9B48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SISL PL off-shore: Rajeev Chauha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11 years in software development and system testing for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UMTS NodeB OAM, transportation systems and protocol develop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  <a:ea typeface="宋体"/>
              </a:rPr>
              <a:t>Leader of the UI development team in Indi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A93-8990-4B15-BB84-5B779EF274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SL Development Tea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ore than 5 years SW development experience on averag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Rajeev Bhatia: Architect AppMsg (messag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unisha Aggarwal: Architect AppBase/Avatar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Gagan Kashyap: Architect AppBase/AppIDC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25 SW Engineers (with 2 - 11 years experienc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DEA-101A-4E51-A914-D3E985FB22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825480"/>
            <a:ext cx="837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= list of all tasks to be performed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3880" y="1239840"/>
            <a:ext cx="8394840" cy="50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BA8-7DEF-46FB-8FD2-B3C37896EF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825480"/>
            <a:ext cx="83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(continued)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01760" y="1252440"/>
            <a:ext cx="8332560" cy="440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1A7-2E66-4636-95EF-F1CF847244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Resource Profile  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155-7C99-4AAB-BBEC-A0B6323BF5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825480"/>
            <a:ext cx="83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(continued)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19040" y="1263600"/>
            <a:ext cx="830592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433-237C-41B9-95D7-F909CF5BBD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5920" y="992160"/>
            <a:ext cx="8346960" cy="48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AAC-1155-4F7C-B3F8-11379F207B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07880" y="976320"/>
            <a:ext cx="8339400" cy="47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457-A13A-43C5-80F1-D0B30A24F4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3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07880" y="958680"/>
            <a:ext cx="8348760" cy="32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D56-173F-4448-8CC5-4104910D16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4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680" y="950760"/>
            <a:ext cx="8324640" cy="36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119-94EE-4C46-8B5C-4D321DAA4F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53880" y="988920"/>
            <a:ext cx="8394840" cy="520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AAE-E181-4837-BF93-63AB2AFA9B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7120" y="984240"/>
            <a:ext cx="8393040" cy="37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3B9-3F93-4DCD-A698-A6EC15387F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3880" y="985680"/>
            <a:ext cx="8385480" cy="438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530-B1B0-40CE-8E39-CD125D22B3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7120" y="988920"/>
            <a:ext cx="8391600" cy="408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550-FAF6-442B-A4A2-A9064322AE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3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3880" y="982800"/>
            <a:ext cx="8390160" cy="383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BF5-C650-438F-87F9-9616FDD935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Koh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Kheng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Yang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Zhang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309-BE82-488F-85E0-5DFFD92B30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V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7120" y="981000"/>
            <a:ext cx="839628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643-5721-4A95-8BB4-852877F443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V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3880" y="976320"/>
            <a:ext cx="8404200" cy="3913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454040" y="5175360"/>
            <a:ext cx="6112080" cy="82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6F4-D9B7-4907-B21B-FE817802FA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2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6840" y="1752480"/>
            <a:ext cx="56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5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9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516-42D6-4B31-A8B7-EA5352160D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10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16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10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44A-2457-41A6-8D08-0E874C9060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288-3E2D-48E8-A987-031902B8659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60640" y="585612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45200" y="581652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02040" y="584820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98800" y="585612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64240" y="5324400"/>
            <a:ext cx="1658880" cy="26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4</a:t>
            </a: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 Approval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42000" y="5324400"/>
            <a:ext cx="771480" cy="34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DEF-1D3A-42ED-8D46-B9429AF2B54F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7BE-E57D-47B0-8A16-8545E1D772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294-A0BE-4B92-8F2E-600D7B2C1B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CC4-874B-43EF-8E82-CA7C66DFF5A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Meaning of Acrony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3722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Organizational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QA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 = Quality Assuranc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HW   = Hardwar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MD    = Mechanical Desig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ST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 = System Te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LCM  = Lifecycle Manage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NPI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 = New Products Introduc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"/>
          <p:cNvSpPr/>
          <p:nvPr/>
        </p:nvSpPr>
        <p:spPr>
          <a:xfrm>
            <a:off x="4772160" y="990720"/>
            <a:ext cx="40100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Project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PM = Category Product Mana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-T = Technical Project 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PM = Technical Product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A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Business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373560"/>
            <a:ext cx="401004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Technical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A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Cor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M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Integr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M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Build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  = Configur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IT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Core Integration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DB = Component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DB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Integration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253-7811-4A80-9191-7951246474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T:          Lars Bonde (Aalborg / Denmar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leader of ODM projects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ebri GPRS module (developed in Franc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8 (Developed in FIN / DK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Luna (Developed in Taiwan)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ars CC75 (Developed in Finland)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Technical Project Leader of JERRY in Aalborg - responsible for all work-packages assigned to Aalbor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522-522B-4BC3-9542-518DA2B6AD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MD: 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hristian P. Nielsen 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leader of mechanical projects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Dual 909, Dual 909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3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era Nop1, 2 and 3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rmorant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echanical project leader of JERRY (in Aalbor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30B5-04DF-4ABE-BF63-CBEEA33781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/>
  <dc:description/>
  <dc:language>en-US</dc:language>
  <cp:lastModifiedBy/>
  <dcterms:modified xsi:type="dcterms:W3CDTF">2006-02-28T12:12:17Z</dcterms:modified>
  <cp:revision>239</cp:revision>
  <dc:subject/>
  <dc:title>PowerPoint</dc:title>
</cp:coreProperties>
</file>